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E8D-D95E-41A8-BCE8-05DE5D04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763-034F-42F3-BB54-6A5E75CB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667-F428-447E-9B54-A2CD6384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E77A-3D59-40EC-A1E3-F906F464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BC35-DE27-45F1-A2AA-4DD449E4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0B7-19C6-4053-9FB6-EE38E659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527F-035D-451F-AAE0-DF5201B1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A2F-1EDF-4C47-8EB7-624439BE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466-F704-4484-96E8-7C3A0CD9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E77-BE84-4863-9BA9-1168916E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28F-0CA8-4DC7-B604-5A51558F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DD5-C4DC-4C27-85F0-CBD1F56C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9834-82ED-4305-B5A9-CC0F36B00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e 1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king and Sleeping Rhy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117880" y="0"/>
            <a:ext cx="5626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eep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We Dre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’s not always s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ifest conte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reud) experiences of the day/preoccup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Dement &amp; Wolpert (1958) water experi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e dil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cid dr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tent cont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reu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mbic system is active… (thus?) Rational thought areas are id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tivation-synthesis theory – making sense of thing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we dre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in develop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toration of brain chemicals and neuron prote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ment of oculomotor (eye movement) coord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storage and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aling with stress or problems in dreams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back at Freud and D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Macintosh HD:Users:HPlouffe:Desktop:_The_Interpretation_of_Dreams___Freud_and_the_Doorway_to_the_Unconscious.mov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lacement, Condensation, Symbolization &amp;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Macintosh HD:Users:HPlouffe:Desktop:Dreamwork__Displacement__Condensation__Symbolization__and_Projection(2).mov" descr=""/>
          <p:cNvPicPr/>
          <p:nvPr/>
        </p:nvPicPr>
        <p:blipFill>
          <a:blip r:embed="rId1"/>
          <a:stretch/>
        </p:blipFill>
        <p:spPr>
          <a:xfrm>
            <a:off x="1727280" y="1905120"/>
            <a:ext cx="6197400" cy="4647960"/>
          </a:xfrm>
          <a:prstGeom prst="rect">
            <a:avLst/>
          </a:prstGeom>
          <a:ln w="0">
            <a:noFill/>
          </a:ln>
        </p:spPr>
      </p:pic>
      <p:sp>
        <p:nvSpPr>
          <p:cNvPr id="8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ud’s Infl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Macintosh HD:Users:HPlouffe:Desktop:The_Influence_of__The_Interpretation_of_Dreams__and_Freud_s_Other_Ideas.mov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8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odern society regards Freud’s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Macintosh HD:Users:HPlouffe:Desktop:How_Modern_Society_Regards_the_Work_of_Sigmund_Freud.mov" descr=""/>
          <p:cNvPicPr/>
          <p:nvPr/>
        </p:nvPicPr>
        <p:blipFill>
          <a:blip r:embed="rId1"/>
          <a:stretch/>
        </p:blipFill>
        <p:spPr>
          <a:xfrm>
            <a:off x="1752480" y="1924200"/>
            <a:ext cx="6172200" cy="4628880"/>
          </a:xfrm>
          <a:prstGeom prst="rect">
            <a:avLst/>
          </a:prstGeom>
          <a:ln w="0">
            <a:noFill/>
          </a:ln>
        </p:spPr>
      </p:pic>
      <p:sp>
        <p:nvSpPr>
          <p:cNvPr id="8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king Conscious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ve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s of Information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dreams and Fantas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eep and D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logical Rhythms and Sl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adian Rhy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eep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 Sl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55480" y="1322280"/>
            <a:ext cx="8026560" cy="42166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suring Sleep 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498760" y="712800"/>
            <a:ext cx="4140000" cy="54356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in Waves and Sleep S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55480" y="2700360"/>
            <a:ext cx="8026560" cy="14605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ment of Sle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55480" y="1424160"/>
            <a:ext cx="8026560" cy="40129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ges in a Typical Night’s Sle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We Slee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s of Sleep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ep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5480" y="719280"/>
            <a:ext cx="8026560" cy="54226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adian Traffic Accidents, 1991-199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22:20:25Z</dcterms:created>
  <dc:creator>bfw</dc:creator>
  <dc:description/>
  <dc:language>en-US</dc:language>
  <cp:lastModifiedBy>MacAdmin Kis</cp:lastModifiedBy>
  <dcterms:modified xsi:type="dcterms:W3CDTF">2008-10-09T22:59:06Z</dcterms:modified>
  <cp:revision>10</cp:revision>
  <dc:subject/>
  <dc:title>Module 17 Waking and Sleeping Rhythms</dc:title>
</cp:coreProperties>
</file>